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6B1E1-C0FC-46E2-9CD6-65815C34F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D6844-040E-4C73-AB06-7D5F5B0FD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51241-E305-4904-BDAF-2E5078AC6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93904-4138-456D-9B59-5FAB3E11A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01EA0-DFAC-4E26-9982-25F0250EF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6CB7D-7D1D-4AA4-9F27-CBB96484B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2DE58-97ED-4752-97E9-1460265B9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8CCA0-CA78-4675-87DB-D261E9FD8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F4672-8DEF-4E0B-B9A3-A15D2B2B7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72F31-2EF1-4A59-B23C-AD3BA2F60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EC479-6AA4-4EC6-B693-EA3879F76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82555-D483-45BE-9287-A91520D5C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3C9D3-1826-4661-BCF1-4DD670B04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92B8D-C5FE-4EE5-BB0C-596EE200F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17661-7D70-428D-ACC0-9CE057014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17D34-E0E9-4675-ADBF-C10E2B674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2E48D-EFD8-41F9-82F2-80559F743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4192E-4E28-4795-AC74-46C3F2369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D1551-AD7C-4671-A234-BB8C036E2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B0A35-2F2E-4E58-918C-D666AA2EF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26057-7062-4F74-BDFC-F38DA06D1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8784E-BD84-4187-8288-A5E93F410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74720-F725-4795-8C2E-5D977024B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A306D-839F-41D7-B375-1C6B0CF71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631C0-257D-4836-8FC9-EB7F09F0C7B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8A95D-C286-48E1-ABEF-A775AAFB2DC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sent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hunks (packets) of data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passed from node to node between source and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terminal to computer and computer to computer 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systems have large overheads to compensate for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rn systems are more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s can be caught in en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overhead for error control is stripped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ution of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ttle overhead fo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packet (called cell)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thing from 10Mbps to G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data rate using packet switching techn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d Services Digita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replace public telecom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de variety of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ly digital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or small cam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owned by same organization as attached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much hig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roadcas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w some switched systems and ATM are being intro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communications between entities in a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peak the same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-mail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te sen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 of a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an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 ma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sk of communication broken up into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example file transfer could use three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service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File Transfer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92480"/>
            <a:ext cx="800100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Three Layer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Communications Model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s data to be transmit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data into transmittable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s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received signal into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s incoming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the computer and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ing computer provides address of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voke level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ent on type of network used (LAN, packet switched etc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ata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being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different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e-mail, fil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evels of addressing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puter needs unique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application on a (multi-tasking) computer needs a unique address within the comp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ervice access point or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s an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528"/>
          <a:stretch/>
        </p:blipFill>
        <p:spPr>
          <a:xfrm>
            <a:off x="1676520" y="1752480"/>
            <a:ext cx="561024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 in Simplified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47840"/>
            <a:ext cx="807696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Data Units (PDU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ach layer, protocols are used to commun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rmation is added to user data at each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 may fragmen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gment has a transport header ad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a transport protocol data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s network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 for destination 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ies reque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a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22372"/>
          <a:stretch/>
        </p:blipFill>
        <p:spPr>
          <a:xfrm>
            <a:off x="685800" y="2117880"/>
            <a:ext cx="784872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US Defense Advanced Research Project Agency (DARPA) for its packet switched network (ARPAN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global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official model but a working o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o host or transpor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Communications Model -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060"/>
          <a:stretch/>
        </p:blipFill>
        <p:spPr>
          <a:xfrm>
            <a:off x="457200" y="1676520"/>
            <a:ext cx="8153280" cy="47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interface between data transmission device (e.g. computer) and transmission medium o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of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end system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 pro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voking services like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Layer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 may be attached to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functions across multipl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ed in end system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 (TC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eliver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ing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ttp, SM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914400" y="1676520"/>
            <a:ext cx="7315200" cy="50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Systems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International Organization for Standardization (IS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theoretical system delivered too lat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is the de facto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v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16127"/>
          <a:stretch/>
        </p:blipFill>
        <p:spPr>
          <a:xfrm>
            <a:off x="838080" y="1676520"/>
            <a:ext cx="7772400" cy="51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d to allow for interoperability between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a large market for equipment and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products from different vendors to commun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eze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ultiple standards for the same t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Communications T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System Uti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r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ing and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format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 Organiz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Socie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(formally CCIT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rther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, W. Data and Computer Communications (6th edition), Prentice Hall 1999 chapter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 for Stallings boo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ww.shore.net/~ws/DCC6e.htm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for IETF, IEEE, ITU-T, 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Requests for Comment (RF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net News grou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dcom.*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protocols.tcp-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Data Communications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9050"/>
          <a:stretch/>
        </p:blipFill>
        <p:spPr>
          <a:xfrm>
            <a:off x="457200" y="2295360"/>
            <a:ext cx="8153280" cy="28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communication not usually prac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re too far a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set of devices would need impractical number of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Network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914400" y="1668600"/>
            <a:ext cx="6705720" cy="51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de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geographical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ing public rights of w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in part on common carrier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 Transfer Mode (AT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s path established for the duration of the convers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0:42Z</dcterms:modified>
  <cp:revision>15</cp:revision>
  <dc:subject/>
  <dc:title>William Stallings Data and Computer Communications</dc:title>
</cp:coreProperties>
</file>